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30651"/>
        <c:axId val="71060019"/>
      </c:barChart>
      <c:catAx>
        <c:axId val="450306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60019"/>
        <c:crosses val="autoZero"/>
        <c:auto val="1"/>
        <c:lblAlgn val="ctr"/>
        <c:lblOffset val="100"/>
        <c:noMultiLvlLbl val="0"/>
      </c:catAx>
      <c:valAx>
        <c:axId val="710600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306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D0E6-43E3-4729-9EAE-D0EDB3A98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1ECE-36D8-46F8-9F09-32245524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8778-2CD6-4447-BDD2-48BF2559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D6E-1F02-4EAC-B54D-2D7BBA7F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7967-4881-4873-BA2A-DB5FAE8E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A562-C53D-4780-A8C6-7AE9E031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DE5-ADC1-40A2-A5B8-96C6011D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6DFA-9294-4D08-99A5-812022E0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0FB-1691-472B-84F6-47B9B40D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BAF-EDAB-45BE-92BA-61F95871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C84-F3ED-4672-85D7-93603227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3A1-88A7-48FF-AECF-03B47F1E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C6C35-021B-4D40-839E-E68001966B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