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15000"/>
        <c:axId val="23657418"/>
      </c:barChart>
      <c:catAx>
        <c:axId val="29515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57418"/>
        <c:crosses val="autoZero"/>
        <c:auto val="1"/>
        <c:lblAlgn val="ctr"/>
        <c:lblOffset val="100"/>
        <c:noMultiLvlLbl val="0"/>
      </c:catAx>
      <c:valAx>
        <c:axId val="23657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5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A17-38E3-457C-813A-BD92F287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653-F0D8-4E68-A97A-C311851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56F-BBBF-4721-87CC-7B05152A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61A-ECC6-4C70-8E24-CDD9872A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72D-A077-416A-AE12-72F2B4E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DD7-C8BB-4002-A4A2-0AB958E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556-D7E6-41ED-B03C-C029075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AB-FC27-4C07-9B94-79EE612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D91-3F9F-4FD7-B429-09EE77B3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8E3-C791-4CCE-9862-E699F39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B9E-355D-453F-A0C5-E3879BE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959-DAC8-47B4-8781-E25D36F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2081-60F2-4E4D-B8F2-9395B44B4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