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92959"/>
        <c:axId val="87224870"/>
      </c:barChart>
      <c:catAx>
        <c:axId val="585929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24870"/>
        <c:crosses val="autoZero"/>
        <c:auto val="1"/>
        <c:lblAlgn val="ctr"/>
        <c:lblOffset val="100"/>
        <c:noMultiLvlLbl val="0"/>
      </c:catAx>
      <c:valAx>
        <c:axId val="87224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929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F23-9B9D-4DE8-8FDC-616A104E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FA4-1F73-424B-AE74-3BC267E6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F03-23EF-458F-B166-0021A7CE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4C27-6FA8-4985-B1D6-77FBAB4D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61A-950A-4BB4-9DF5-5EA8356A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54B-3A73-480F-966F-ED42FD8D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3FA-D52D-44A9-BE63-B277FAAE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E58-4D54-4C0E-8370-8A564B73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D08-A2F2-4029-8517-F8135C06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342-4FD6-48F5-BC65-D4A02D5F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14C-0EA4-4221-BFB6-9791C67F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C7F-7F88-4080-8CD6-423E119C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D5ECB-389D-4058-9A77-5E4341489C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