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19579"/>
        <c:axId val="28280187"/>
      </c:barChart>
      <c:catAx>
        <c:axId val="28319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80187"/>
        <c:crosses val="autoZero"/>
        <c:auto val="1"/>
        <c:lblAlgn val="ctr"/>
        <c:lblOffset val="100"/>
        <c:noMultiLvlLbl val="0"/>
      </c:catAx>
      <c:valAx>
        <c:axId val="28280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9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BBF-1053-4292-B998-687BF773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117-E1F5-4032-8618-DD29BEE0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18C-AD8F-4FBF-ABDD-0ABE8E93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D43-5EA6-4D8E-86A5-B9CCD4EE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3D5-1655-4452-9592-0A1151C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B2F-BC11-46D0-B7DC-BD75F1F1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A1F-FE07-4E3D-89EF-F895268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A83-DF79-49EC-9DE4-14C44D3F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5AB-C113-4D95-B6DF-A47C7C0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E67-C7CF-4C49-8F55-0AC46414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0EE-A5D4-4640-BF27-96A870D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5AC-0415-461C-82A7-FFCD186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A1320-45D3-47B5-9674-0DB7F1E6A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